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91D-5E50-43C2-A239-DC8F0653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B66-6B4F-46BB-883B-DE86A03A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A3A-C0C3-41F7-9644-A4ED720C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A71-6133-4E65-BFD1-BE6B7A17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76C6-75B5-4055-B305-775B5A63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A636-C774-4823-8B86-3F426968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33A5-0BC2-4C37-BD97-18863F7D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D069-E79A-47C2-BBA0-4A1FDFAC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13A7-9D59-4EFF-9737-6AA6D97F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04A2-C2F1-4A32-BA1E-D379D1E7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D7FE-3472-4597-A484-A83B6962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19C-1436-4D6A-900C-37A3295A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B994-2FC2-4C20-B862-A3C7A4B6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6397-A4D4-49B3-851D-983E6D2D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8348-A4B8-4FF9-86A8-01A1C29F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D0F4-70CA-4BD8-9AC5-DBDDBE2C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40CD-76AF-49EA-B4F8-B7B89101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DCC9-AB20-405C-9E77-BF699B2C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EE6F-5055-4B03-AF34-C4C0774D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88F06-C2FA-421A-A4CA-A69F5680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5C04-9D5B-42A8-9484-59B8EDC0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9A4E-3B49-409E-A986-3A4A237F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0D9-C148-4818-92FA-24B30D18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7903-5B8E-4D8B-9880-0F79C91F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A316F-C0F7-4E03-8909-197A3503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ECF8-207F-468C-B9DB-A0C1AFD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A883-C23D-4D83-8953-C88AB85B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D36B-37AB-45DC-817B-59C6CFB3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9CB1-0449-4F58-A770-E05F1065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83C63-DFCD-4664-8757-2DF66D62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6E4C7-1343-4684-B47D-16CFA2FE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4948-3F5A-46F3-A878-27A9BDAA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49589-D91F-4E1E-9B31-69206932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B7B-BA09-4272-A7B2-819E7BF2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FE716-B119-4618-B58D-82928758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C1F69-8789-4914-A8C0-D0B2F0B0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0AE8F-EC31-4518-98A0-DA94B704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767EA-80C1-4FDD-95A5-AC27B779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E18A6-175C-458A-BC83-FA353C0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5D1D8-BD10-4917-8CDE-AC820314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F92AC-8A0F-4F0B-ACDA-A576A8A1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B85F4-C721-4AE2-8572-A1129DC4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EDB25-5D89-4E1B-9B6E-A50D2857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4C9E2-883E-43BE-A1CD-9A7E56D8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558-608C-43F8-A181-58063F04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C5E34-26DE-4BA8-BD63-A8B190C4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E4E4-30C8-4020-ABBF-168409E0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CC59D-DD08-480E-898D-80498DAD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1EBE9-C863-475C-9A80-6D1AC256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9EAE4-6D1A-4F32-8914-28E81819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9E201-16BD-4073-9532-210A7DA7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3C0B3-3369-4FB3-89AB-D4D91A1F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BB083-A69E-4A12-A546-790C0BF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7B144-456A-4676-855A-17EEC937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210E9-1C4B-4D6B-8910-776A67AF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564-CFD8-44FA-A61E-BEF75E7A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F17BB-6EFE-40D9-985B-7B4DFCFF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931-9C25-4BAE-84AB-561ABEEB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BE9-E121-490B-BBDF-B822B0D8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40E-70D8-42D9-96AE-F30683CA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D0CA-533E-4D37-B263-98835DAAE1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4088-F143-474B-AD57-90C55F3E57A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6F8B-4DF2-4C42-BA82-B97B2CC4781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56BB-8378-4EC1-BB4A-989ED591CC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135B-3521-4D7A-8A86-4A537428AF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ports and Entertai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onnections and Contrast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hapter 2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837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commer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ccessful sports and entertainment marketing strategies have always appealed to the desire to go out to a special ev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914400" y="3475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ic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Content Placeholder 2"/>
          <p:cNvSpPr/>
          <p:nvPr/>
        </p:nvSpPr>
        <p:spPr>
          <a:xfrm>
            <a:off x="914400" y="4038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icket Scalpers – unauthorized ticket sell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racy – is the unauthorized use of an owner’s or creator’s music, movies, or other copyrighted material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Straight Connector 6"/>
          <p:cNvSpPr/>
          <p:nvPr/>
        </p:nvSpPr>
        <p:spPr>
          <a:xfrm>
            <a:off x="304920" y="3200400"/>
            <a:ext cx="84121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mo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duct tie-in – is the use of an ancillary product such as merchandise as promotional tools. (McDonalds happy meal toy relates to a new movi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ross-promotion – is any form of communication through which one industry relies on another industry to promote its products. TV interviews and websites are important cross promotional too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5" name="Picture 2" descr="http://www.cbsnews.com/i/tim/2010/06/23/happymeal-shrek_370x278.jpg"/>
          <p:cNvPicPr/>
          <p:nvPr/>
        </p:nvPicPr>
        <p:blipFill>
          <a:blip r:embed="rId1"/>
          <a:stretch/>
        </p:blipFill>
        <p:spPr>
          <a:xfrm>
            <a:off x="2971800" y="4376880"/>
            <a:ext cx="29718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ports Mark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ing sports to market produ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2" name="Picture 2" descr="http://fussmartial.edublogs.org/files/2008/10/euro_20081.jpg"/>
          <p:cNvPicPr/>
          <p:nvPr/>
        </p:nvPicPr>
        <p:blipFill>
          <a:blip r:embed="rId1"/>
          <a:stretch/>
        </p:blipFill>
        <p:spPr>
          <a:xfrm>
            <a:off x="3200400" y="2209680"/>
            <a:ext cx="28195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Development of Sports and Entertainment Mark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2547720"/>
            <a:ext cx="381024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illiam “Bill” Veeck first to develop sports marketing in the 1940’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2" descr="http://cdn.bleacherreport.net/images_root/slides/photos/000/233/169/William_Veeck_display_image.jpg?1274477436"/>
          <p:cNvPicPr/>
          <p:nvPr/>
        </p:nvPicPr>
        <p:blipFill>
          <a:blip r:embed="rId1"/>
          <a:stretch/>
        </p:blipFill>
        <p:spPr>
          <a:xfrm>
            <a:off x="1447920" y="4114800"/>
            <a:ext cx="1981080" cy="233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havelshouseofhistory.com/Zukor,%20Adolph.jpg"/>
          <p:cNvPicPr/>
          <p:nvPr/>
        </p:nvPicPr>
        <p:blipFill>
          <a:blip r:embed="rId2"/>
          <a:stretch/>
        </p:blipFill>
        <p:spPr>
          <a:xfrm>
            <a:off x="6095880" y="4137120"/>
            <a:ext cx="1600200" cy="2415960"/>
          </a:xfrm>
          <a:prstGeom prst="rect">
            <a:avLst/>
          </a:prstGeom>
          <a:ln w="0">
            <a:noFill/>
          </a:ln>
        </p:spPr>
      </p:pic>
      <p:sp>
        <p:nvSpPr>
          <p:cNvPr id="237" name="Text Placeholder 4"/>
          <p:cNvSpPr/>
          <p:nvPr/>
        </p:nvSpPr>
        <p:spPr>
          <a:xfrm>
            <a:off x="4952880" y="2819520"/>
            <a:ext cx="3810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dolph Zukor, founder of Paramount Pictur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sum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ople who use produ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2" descr="http://netcrafted.com/wp-content/uploads/2011/11/consumers.jpg"/>
          <p:cNvPicPr/>
          <p:nvPr/>
        </p:nvPicPr>
        <p:blipFill>
          <a:blip r:embed="rId1"/>
          <a:stretch/>
        </p:blipFill>
        <p:spPr>
          <a:xfrm>
            <a:off x="2133720" y="30481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iscretionary Incom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ney left to spend after necessary expenses are paid; and a desire for recre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2" descr="http://www.buzzle.com/img/articleImages/495461-5410-25.jpg"/>
          <p:cNvPicPr/>
          <p:nvPr/>
        </p:nvPicPr>
        <p:blipFill>
          <a:blip r:embed="rId1"/>
          <a:stretch/>
        </p:blipFill>
        <p:spPr>
          <a:xfrm>
            <a:off x="3124080" y="2637000"/>
            <a:ext cx="281952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Marketing Today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Vendors – sellers of produc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duct – good or service that any for-profit industry sell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o its consumer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Franklin Gothic Book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P in the Marketing Mix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me marketers consider People to be the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P in the marketing mi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2" descr="http://www.luckylabrescue.com/images/j0411828.jpg"/>
          <p:cNvPicPr/>
          <p:nvPr/>
        </p:nvPicPr>
        <p:blipFill>
          <a:blip r:embed="rId1"/>
          <a:stretch/>
        </p:blipFill>
        <p:spPr>
          <a:xfrm>
            <a:off x="2514600" y="3124080"/>
            <a:ext cx="388620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mo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ny form of communication used to persuade people to buy products through advertising, publicity, personal selling or s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152280" y="52974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ew technologies have broadened the scope and reach of marketing messages, and they can be entertainment products themselv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http://extremetrix.com/blog/wp-content/uploads/2011/01/technology.jpg"/>
          <p:cNvPicPr/>
          <p:nvPr/>
        </p:nvPicPr>
        <p:blipFill>
          <a:blip r:embed="rId1"/>
          <a:stretch/>
        </p:blipFill>
        <p:spPr>
          <a:xfrm>
            <a:off x="3048120" y="2438280"/>
            <a:ext cx="3276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du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e Product – main product, include the sports event, movie, stage show, or book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cillary Product – is a product related to or created from the core product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Picture 2" descr="http://www.universalorlando.com/Images/PG_v_thumb_3_tcm13-4623.jpg"/>
          <p:cNvPicPr/>
          <p:nvPr/>
        </p:nvPicPr>
        <p:blipFill>
          <a:blip r:embed="rId1"/>
          <a:stretch/>
        </p:blipFill>
        <p:spPr>
          <a:xfrm>
            <a:off x="6248520" y="3505320"/>
            <a:ext cx="2209680" cy="246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http://ecx.images-amazon.com/images/I/51BR3RNVKZL._SL500_AA300_.jpg"/>
          <p:cNvPicPr/>
          <p:nvPr/>
        </p:nvPicPr>
        <p:blipFill>
          <a:blip r:embed="rId2"/>
          <a:stretch/>
        </p:blipFill>
        <p:spPr>
          <a:xfrm rot="296400">
            <a:off x="860040" y="3755520"/>
            <a:ext cx="2400480" cy="2400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ttp://nfl.imageg.net/graphics/product_images/p5918514reg.jpg"/>
          <p:cNvPicPr/>
          <p:nvPr/>
        </p:nvPicPr>
        <p:blipFill>
          <a:blip r:embed="rId3"/>
          <a:stretch/>
        </p:blipFill>
        <p:spPr>
          <a:xfrm rot="20502000">
            <a:off x="3476160" y="3628800"/>
            <a:ext cx="209556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2:21:16Z</dcterms:created>
  <dc:creator>Christina</dc:creator>
  <dc:description/>
  <dc:language>en-US</dc:language>
  <cp:lastModifiedBy>Christina</cp:lastModifiedBy>
  <dcterms:modified xsi:type="dcterms:W3CDTF">2012-02-06T02:42:28Z</dcterms:modified>
  <cp:revision>5</cp:revision>
  <dc:subject/>
  <dc:title>Chapter 2</dc:title>
</cp:coreProperties>
</file>